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9DFA83-6143-4C7A-9685-4DE66E8FD38E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en-US"/>
        </a:p>
      </dgm:t>
    </dgm:pt>
    <dgm:pt modelId="{E247E80A-806A-4780-9082-E8E45089007F}">
      <dgm:prSet/>
      <dgm:spPr/>
      <dgm:t>
        <a:bodyPr/>
        <a:lstStyle/>
        <a:p>
          <a:pPr rtl="0"/>
          <a:r>
            <a:rPr lang="en-US" baseline="0" smtClean="0"/>
            <a:t>Karl Marx</a:t>
          </a:r>
          <a:endParaRPr lang="en-US"/>
        </a:p>
      </dgm:t>
    </dgm:pt>
    <dgm:pt modelId="{A88DEC98-5E6A-4473-9E57-BB1171624419}" type="parTrans" cxnId="{9FEF1A42-8CA3-43D1-AE02-1F889EF30FFE}">
      <dgm:prSet/>
      <dgm:spPr/>
      <dgm:t>
        <a:bodyPr/>
        <a:lstStyle/>
        <a:p>
          <a:endParaRPr lang="en-US"/>
        </a:p>
      </dgm:t>
    </dgm:pt>
    <dgm:pt modelId="{C19A12AC-308E-4E52-96D8-BC7B2F8C5B8F}" type="sibTrans" cxnId="{9FEF1A42-8CA3-43D1-AE02-1F889EF30FFE}">
      <dgm:prSet/>
      <dgm:spPr/>
      <dgm:t>
        <a:bodyPr/>
        <a:lstStyle/>
        <a:p>
          <a:endParaRPr lang="en-US"/>
        </a:p>
      </dgm:t>
    </dgm:pt>
    <dgm:pt modelId="{3B61889E-B233-4074-B53A-747603856618}">
      <dgm:prSet/>
      <dgm:spPr/>
      <dgm:t>
        <a:bodyPr/>
        <a:lstStyle/>
        <a:p>
          <a:pPr rtl="0"/>
          <a:r>
            <a:rPr lang="en-US" baseline="0" dirty="0" smtClean="0"/>
            <a:t>Wrote the </a:t>
          </a:r>
          <a:r>
            <a:rPr lang="en-US" i="1" baseline="0" dirty="0" smtClean="0"/>
            <a:t>Communist Manifesto, </a:t>
          </a:r>
          <a:r>
            <a:rPr lang="en-US" baseline="0" dirty="0" smtClean="0"/>
            <a:t>one of the world’s most famous manifestos. </a:t>
          </a:r>
          <a:endParaRPr lang="en-US" dirty="0"/>
        </a:p>
      </dgm:t>
    </dgm:pt>
    <dgm:pt modelId="{85A862B9-6CB6-4736-9825-778E16EB96B4}" type="parTrans" cxnId="{3B9527C4-5FEE-4CBE-BF3C-94FF6B237126}">
      <dgm:prSet/>
      <dgm:spPr/>
      <dgm:t>
        <a:bodyPr/>
        <a:lstStyle/>
        <a:p>
          <a:endParaRPr lang="en-US"/>
        </a:p>
      </dgm:t>
    </dgm:pt>
    <dgm:pt modelId="{DC17101C-7822-43AD-8F51-0BA7239769EF}" type="sibTrans" cxnId="{3B9527C4-5FEE-4CBE-BF3C-94FF6B237126}">
      <dgm:prSet/>
      <dgm:spPr/>
      <dgm:t>
        <a:bodyPr/>
        <a:lstStyle/>
        <a:p>
          <a:endParaRPr lang="en-US"/>
        </a:p>
      </dgm:t>
    </dgm:pt>
    <dgm:pt modelId="{E5ECDA5E-FFB0-4421-9406-43C77FAC98A7}" type="pres">
      <dgm:prSet presAssocID="{589DFA83-6143-4C7A-9685-4DE66E8FD38E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0E987E5D-D37C-40DB-9E4C-70F8D70666AD}" type="pres">
      <dgm:prSet presAssocID="{E247E80A-806A-4780-9082-E8E45089007F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1AA8B91-8E74-472E-913E-F44726770A16}" type="pres">
      <dgm:prSet presAssocID="{C19A12AC-308E-4E52-96D8-BC7B2F8C5B8F}" presName="spacer" presStyleCnt="0"/>
      <dgm:spPr/>
    </dgm:pt>
    <dgm:pt modelId="{5BEAD4A7-FDD6-4C2F-A8DF-C6C0AD3FB836}" type="pres">
      <dgm:prSet presAssocID="{3B61889E-B233-4074-B53A-74760385661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1EAD771-1641-414D-BFEE-FB46540CF85D}" type="presOf" srcId="{589DFA83-6143-4C7A-9685-4DE66E8FD38E}" destId="{E5ECDA5E-FFB0-4421-9406-43C77FAC98A7}" srcOrd="0" destOrd="0" presId="urn:microsoft.com/office/officeart/2005/8/layout/vList2"/>
    <dgm:cxn modelId="{3B9527C4-5FEE-4CBE-BF3C-94FF6B237126}" srcId="{589DFA83-6143-4C7A-9685-4DE66E8FD38E}" destId="{3B61889E-B233-4074-B53A-747603856618}" srcOrd="1" destOrd="0" parTransId="{85A862B9-6CB6-4736-9825-778E16EB96B4}" sibTransId="{DC17101C-7822-43AD-8F51-0BA7239769EF}"/>
    <dgm:cxn modelId="{D2ACE77A-C9F1-479E-964B-42256639EAEF}" type="presOf" srcId="{3B61889E-B233-4074-B53A-747603856618}" destId="{5BEAD4A7-FDD6-4C2F-A8DF-C6C0AD3FB836}" srcOrd="0" destOrd="0" presId="urn:microsoft.com/office/officeart/2005/8/layout/vList2"/>
    <dgm:cxn modelId="{9FEF1A42-8CA3-43D1-AE02-1F889EF30FFE}" srcId="{589DFA83-6143-4C7A-9685-4DE66E8FD38E}" destId="{E247E80A-806A-4780-9082-E8E45089007F}" srcOrd="0" destOrd="0" parTransId="{A88DEC98-5E6A-4473-9E57-BB1171624419}" sibTransId="{C19A12AC-308E-4E52-96D8-BC7B2F8C5B8F}"/>
    <dgm:cxn modelId="{0B95191F-ED61-4F67-80B8-1EC166DA2E9A}" type="presOf" srcId="{E247E80A-806A-4780-9082-E8E45089007F}" destId="{0E987E5D-D37C-40DB-9E4C-70F8D70666AD}" srcOrd="0" destOrd="0" presId="urn:microsoft.com/office/officeart/2005/8/layout/vList2"/>
    <dgm:cxn modelId="{C8365735-CE73-47C5-B23D-8E42780D2204}" type="presParOf" srcId="{E5ECDA5E-FFB0-4421-9406-43C77FAC98A7}" destId="{0E987E5D-D37C-40DB-9E4C-70F8D70666AD}" srcOrd="0" destOrd="0" presId="urn:microsoft.com/office/officeart/2005/8/layout/vList2"/>
    <dgm:cxn modelId="{CAE5BB36-368E-498E-9710-D235B688C8D9}" type="presParOf" srcId="{E5ECDA5E-FFB0-4421-9406-43C77FAC98A7}" destId="{01AA8B91-8E74-472E-913E-F44726770A16}" srcOrd="1" destOrd="0" presId="urn:microsoft.com/office/officeart/2005/8/layout/vList2"/>
    <dgm:cxn modelId="{972D06E3-A7F4-4DF4-950D-511571E6C536}" type="presParOf" srcId="{E5ECDA5E-FFB0-4421-9406-43C77FAC98A7}" destId="{5BEAD4A7-FDD6-4C2F-A8DF-C6C0AD3FB836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E987E5D-D37C-40DB-9E4C-70F8D70666AD}">
      <dsp:nvSpPr>
        <dsp:cNvPr id="0" name=""/>
        <dsp:cNvSpPr/>
      </dsp:nvSpPr>
      <dsp:spPr>
        <a:xfrm>
          <a:off x="0" y="149932"/>
          <a:ext cx="4038600" cy="2010571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000" kern="1200" baseline="0" smtClean="0"/>
            <a:t>Karl Marx</a:t>
          </a:r>
          <a:endParaRPr lang="en-US" sz="3000" kern="1200"/>
        </a:p>
      </dsp:txBody>
      <dsp:txXfrm>
        <a:off x="0" y="149932"/>
        <a:ext cx="4038600" cy="2010571"/>
      </dsp:txXfrm>
    </dsp:sp>
    <dsp:sp modelId="{5BEAD4A7-FDD6-4C2F-A8DF-C6C0AD3FB836}">
      <dsp:nvSpPr>
        <dsp:cNvPr id="0" name=""/>
        <dsp:cNvSpPr/>
      </dsp:nvSpPr>
      <dsp:spPr>
        <a:xfrm>
          <a:off x="0" y="2246904"/>
          <a:ext cx="4038600" cy="2010571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000" kern="1200" baseline="0" dirty="0" smtClean="0"/>
            <a:t>Wrote the </a:t>
          </a:r>
          <a:r>
            <a:rPr lang="en-US" sz="3000" i="1" kern="1200" baseline="0" dirty="0" smtClean="0"/>
            <a:t>Communist Manifesto, </a:t>
          </a:r>
          <a:r>
            <a:rPr lang="en-US" sz="3000" kern="1200" baseline="0" dirty="0" smtClean="0"/>
            <a:t>one of the world’s most famous manifestos. </a:t>
          </a:r>
          <a:endParaRPr lang="en-US" sz="3000" kern="1200" dirty="0"/>
        </a:p>
      </dsp:txBody>
      <dsp:txXfrm>
        <a:off x="0" y="2246904"/>
        <a:ext cx="4038600" cy="201057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DDE5-6E86-4ADB-B25E-330E0C0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27AE-6A74-41EA-8526-721AD51E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B2BA-9B1B-46B2-A1DA-D3D7C5C5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BC98-E43C-445F-90A8-4BCA1F47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943B-E7D7-41EF-9B00-1F3CA9A9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9CB-7B39-4F26-81CF-3AAB0FC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07F0-CD3C-442F-BFE2-C1CC609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A19A-71C9-4D83-A9A7-8769503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B78D-A6E5-4816-96DE-C5EDCE46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5C82-3AC3-4401-9A0D-63D873C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EF5C-D31B-4136-B931-ADE7C93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9FFF-740A-41EF-85D0-8A317D55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B474-1DF2-4C01-B196-23E4425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360C-0C06-4987-973E-349B6ED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F64-75D3-4A89-B57E-BEBE4B5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8B61-72EE-4C9B-93B4-8897D787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7082-7706-4FA6-BA31-4C7990F4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5A35-6A91-4A0C-873C-B28C93DD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5902-96A8-4270-9697-4A5FFC4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D382-E736-4A9E-8162-C6AB0421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2523-1A12-4056-80C6-673B9199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894B-AF69-448D-AAB5-7D895C1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819C-983D-4094-B37C-67C1BB05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761B-C006-479C-A8EE-765C4CE4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375A-BCE9-4945-A9AF-9DCEF26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5D4E-C7FE-4FA6-B597-217D0A2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501A-441E-4F52-A643-9BA851BF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F30B-66DA-44CF-AAD1-232379D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A389-3230-4283-8C74-FBECCA08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2B5D-DEAD-4BE0-9B88-974CF4AA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DF1BE-FC53-4E61-9256-C5BAAFFB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4C468-E6B8-431F-AD77-6B8EA79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36586-9EF0-4FA0-81F0-880B6EE0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F952-31DB-4E6E-BFE0-F71F03B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28621-9E19-4BC0-8CD2-C161C6D0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64619-7D78-40E1-AB43-378056D7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46565-E232-4BD9-B049-9ACC6EDE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5116A-8E8E-43E7-BBA3-B1CB336C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9006A-1803-4D88-ABC0-1FA057EB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0141F-6177-46E3-9C92-DB1C826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44B96-254E-4CE3-B352-47E2547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335C0-249F-40E6-AC0A-CCFDE21D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412FB-F805-4CDA-878C-D4730B10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A5D7-ED2B-42E7-B57C-274884B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3B6F-8374-4452-87D0-34BB9C8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3406-600E-4FCF-A65C-E4D902E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CF9A-75B0-4BC6-9EEC-2ED3875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C9F8-FFBB-4201-B56C-EFB83C3C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F0D2-EC4E-4932-91A9-5B1A1F0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3BD5-D918-45E7-9A68-05E8C92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E5D2-89AC-45AB-90CF-537A1B0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482D-9692-4EBC-87CD-889009E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4B5E-5670-407C-9D7C-9475EF0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2A21-3AA6-49D8-8158-1DB95D6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F2C7-88A8-425F-A49C-279E885A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0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C265-F6BD-443E-BCE1-8EC79CC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82268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187800" y="17190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182268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3187800" y="4021200"/>
            <a:ext cx="129996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26F8-96F1-4442-88B5-A0129046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DB24-6262-4112-ABDD-9C897A9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6480" y="40212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16DF-B421-4DA2-8E3C-F781C565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6480" y="1719000"/>
            <a:ext cx="197028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1200"/>
            <a:ext cx="4038120" cy="21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B6AF-BEB7-49D9-9DAE-EED4787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7010280" y="152280"/>
            <a:ext cx="1980720" cy="6555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152280" y="154080"/>
            <a:ext cx="6705360" cy="65527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97E122-C81C-4552-8D7B-007D735E6705}" type="slidenum">
              <a:rPr b="0" lang="en-US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3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053080"/>
            <a:ext cx="63241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148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97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13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79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4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4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6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6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79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4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4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6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6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540F67-B118-45AE-875A-58666A9DA493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0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18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281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4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261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3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3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B57CDF-1C47-41EC-99B3-E71F639B7073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 hidden="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3" name="Rectangle 7" hidden="1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7010280" y="152280"/>
            <a:ext cx="1980720" cy="65559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4080"/>
            <a:ext cx="6705360" cy="6552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162920" y="2892240"/>
            <a:ext cx="159984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148" strike="noStrike">
                <a:solidFill>
                  <a:srgbClr val="ccd1b9"/>
                </a:solidFill>
                <a:latin typeface="Franklin Gothic Medium"/>
              </a:rPr>
              <a:t>Click to edit Master text styles</a:t>
            </a:r>
            <a:endParaRPr b="0" lang="en-US" sz="20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1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42DEB7-5E8A-47A2-8925-D110159B92A2}" type="slidenum">
              <a:rPr b="0" lang="en-US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2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title"/>
          </p:nvPr>
        </p:nvSpPr>
        <p:spPr>
          <a:xfrm>
            <a:off x="380880" y="2892240"/>
            <a:ext cx="632412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52280" y="152280"/>
            <a:ext cx="8813520" cy="1346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72260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403992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2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4645080" y="172260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4645080" y="2438280"/>
            <a:ext cx="40413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Click to edit Master text styles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bf974d"/>
              </a:buClr>
              <a:buFont typeface="Wingdings" charset="2"/>
              <a:buChar char=""/>
            </a:pPr>
            <a:r>
              <a:rPr b="0" lang="en-US" sz="2000" spc="97" strike="noStrike">
                <a:solidFill>
                  <a:srgbClr val="534949"/>
                </a:solidFill>
                <a:latin typeface="Franklin Gothic Medium"/>
              </a:rPr>
              <a:t>Second level</a:t>
            </a:r>
            <a:endParaRPr b="0" lang="en-US" sz="2000" spc="97" strike="noStrike">
              <a:solidFill>
                <a:srgbClr val="534949"/>
              </a:solidFill>
              <a:latin typeface="Franklin Gothic Medium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buClr>
                <a:srgbClr val="928b70"/>
              </a:buClr>
              <a:buFont typeface="Wingdings" charset="2"/>
              <a:buChar char=""/>
            </a:pPr>
            <a:r>
              <a:rPr b="0" lang="en-US" sz="1800" spc="97" strike="noStrike">
                <a:solidFill>
                  <a:srgbClr val="534949"/>
                </a:solidFill>
                <a:latin typeface="Franklin Gothic Medium"/>
              </a:rPr>
              <a:t>Third leve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87706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Four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  <a:p>
            <a:pPr lvl="4" marL="1280160" indent="-182880">
              <a:lnSpc>
                <a:spcPct val="100000"/>
              </a:lnSpc>
              <a:spcBef>
                <a:spcPts val="320"/>
              </a:spcBef>
              <a:buClr>
                <a:srgbClr val="6f777d"/>
              </a:buClr>
              <a:buFont typeface="Wingdings" charset="2"/>
              <a:buChar char=""/>
            </a:pPr>
            <a:r>
              <a:rPr b="0" lang="en-US" sz="1600" spc="97" strike="noStrike">
                <a:solidFill>
                  <a:srgbClr val="534949"/>
                </a:solidFill>
                <a:latin typeface="Franklin Gothic Medium"/>
              </a:rPr>
              <a:t>Fifth level</a:t>
            </a:r>
            <a:endParaRPr b="0" lang="en-US" sz="1600" spc="97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3"/>
          </p:nvPr>
        </p:nvSpPr>
        <p:spPr>
          <a:xfrm>
            <a:off x="370800" y="63565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ftr" idx="14"/>
          </p:nvPr>
        </p:nvSpPr>
        <p:spPr>
          <a:xfrm>
            <a:off x="3048120" y="6356520"/>
            <a:ext cx="33523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 type="sldNum" idx="15"/>
          </p:nvPr>
        </p:nvSpPr>
        <p:spPr>
          <a:xfrm>
            <a:off x="8234640" y="6355080"/>
            <a:ext cx="582480" cy="273960"/>
          </a:xfrm>
          <a:prstGeom prst="rect">
            <a:avLst/>
          </a:prstGeom>
          <a:noFill/>
          <a:ln w="1908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F9401D-46E8-4E9B-8A25-E29B816D87AB}" type="slidenum">
              <a:rPr b="0" lang="en-US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8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010280" y="2053080"/>
            <a:ext cx="19807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0" lang="en-US" sz="1900" spc="148" strike="noStrike">
                <a:solidFill>
                  <a:srgbClr val="ffffff"/>
                </a:solidFill>
                <a:latin typeface="Franklin Gothic Medium"/>
              </a:rPr>
              <a:t>What is a manifesto and how do I use on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053080"/>
            <a:ext cx="6324120" cy="18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The manifesto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As with any piece of writing, the writer of a manifesto needs a good place to generate ideas from. 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here do I get started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15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FREE-WRITING!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69764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91488727"/>
              </p:ext>
            </p:extLst>
          </p:nvPr>
        </p:nvGraphicFramePr>
        <p:xfrm>
          <a:off x="457200" y="1719000"/>
          <a:ext cx="4038120" cy="4407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The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6"/>
          <a:stretch/>
        </p:blipFill>
        <p:spPr>
          <a:xfrm>
            <a:off x="4648320" y="1903320"/>
            <a:ext cx="4038120" cy="40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2800" spc="148" strike="noStrike">
                <a:solidFill>
                  <a:srgbClr val="534949"/>
                </a:solidFill>
                <a:latin typeface="Franklin Gothic Medium"/>
              </a:rPr>
              <a:t>Manifesto</a:t>
            </a: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: 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a public declaration of principles, intentions, objectives, opinions, or motives.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hat is a manifesto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39300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The Communist Manifesto</a:t>
            </a: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, Karl Marx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The </a:t>
            </a: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United States Declaration of Independence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The </a:t>
            </a: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Declaration of the Rights of Man and Citizen</a:t>
            </a: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 during the French Revolution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i="1" lang="en-US" sz="3200" spc="148" strike="noStrike">
                <a:solidFill>
                  <a:srgbClr val="534949"/>
                </a:solidFill>
                <a:latin typeface="Franklin Gothic Medium"/>
              </a:rPr>
              <a:t>The Port Huron Statement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Famous manifesto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162920" y="2892240"/>
            <a:ext cx="159984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148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80880" y="2892240"/>
            <a:ext cx="6324120" cy="164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200" spc="148" strike="noStrike" cap="all">
                <a:solidFill>
                  <a:srgbClr val="ffffff"/>
                </a:solidFill>
                <a:latin typeface="Franklin Gothic Medium"/>
              </a:rPr>
              <a:t>How do I make my own manifesto?</a:t>
            </a:r>
            <a:endParaRPr b="0" lang="en-US" sz="4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130160" y="3048120"/>
            <a:ext cx="1780920" cy="14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64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3200" spc="148" strike="noStrike">
                <a:solidFill>
                  <a:srgbClr val="534949"/>
                </a:solidFill>
                <a:latin typeface="Franklin Gothic Medium"/>
              </a:rPr>
              <a:t>You can write a manifesto on just about any topic. Traditionally, manifestos are political in nature, but you can write about your beliefs on any topic. </a:t>
            </a:r>
            <a:endParaRPr b="0" lang="en-US" sz="32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40399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b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99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5080" y="172260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45080" y="1752480"/>
            <a:ext cx="40413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2360" indent="-21024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Write about something you are passionate about</a:t>
            </a:r>
            <a:endParaRPr b="0" lang="en-US" sz="2400" spc="148" strike="noStrike">
              <a:solidFill>
                <a:srgbClr val="534949"/>
              </a:solidFill>
              <a:latin typeface="Franklin Gothic Medium"/>
            </a:endParaRPr>
          </a:p>
          <a:p>
            <a:pPr marL="252360" indent="-210240">
              <a:lnSpc>
                <a:spcPct val="100000"/>
              </a:lnSpc>
              <a:spcBef>
                <a:spcPts val="479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It may help to write about something you want to see change in, i.e. laws, policies, spiritual beliefs, the roles of people in society, social change.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400" spc="148" strike="noStrike">
                <a:solidFill>
                  <a:srgbClr val="534949"/>
                </a:solidFill>
                <a:latin typeface="Franklin Gothic Medium"/>
              </a:rPr>
              <a:t>                 </a:t>
            </a:r>
            <a:r>
              <a:rPr b="0" lang="en-US" sz="1050" spc="148" strike="noStrike">
                <a:solidFill>
                  <a:srgbClr val="534949"/>
                </a:solidFill>
                <a:latin typeface="Franklin Gothic Medium"/>
              </a:rPr>
              <a:t>        </a:t>
            </a: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210"/>
              </a:spcBef>
              <a:buNone/>
            </a:pP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  <a:p>
            <a:pPr marL="252360" indent="-210240">
              <a:lnSpc>
                <a:spcPct val="100000"/>
              </a:lnSpc>
              <a:spcBef>
                <a:spcPts val="210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1050" spc="148" strike="noStrike">
                <a:solidFill>
                  <a:srgbClr val="534949"/>
                </a:solidFill>
                <a:latin typeface="Franklin Gothic Medium"/>
              </a:rPr>
              <a:t>Note: Manifestos written about religious topics are often referred to as creeds. </a:t>
            </a:r>
            <a:endParaRPr b="0" lang="en-US" sz="105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 (cont.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6520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Don’t feel pressured to change the world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Your topic doesn’t have to take on a monumental scale—in fact, it shouldn’t. 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419720" y="2427120"/>
            <a:ext cx="444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40381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Choose a focused topic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Be careful and concise with your ideas and writing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Stay on topic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  <a:p>
            <a:pPr marL="274320" indent="-228600">
              <a:lnSpc>
                <a:spcPct val="100000"/>
              </a:lnSpc>
              <a:spcBef>
                <a:spcPts val="561"/>
              </a:spcBef>
              <a:buClr>
                <a:srgbClr val="c66951"/>
              </a:buClr>
              <a:buFont typeface="Wingdings 2" charset="2"/>
              <a:buChar char=""/>
            </a:pPr>
            <a:r>
              <a:rPr b="0" lang="en-US" sz="2800" spc="148" strike="noStrike">
                <a:solidFill>
                  <a:srgbClr val="534949"/>
                </a:solidFill>
                <a:latin typeface="Franklin Gothic Medium"/>
              </a:rPr>
              <a:t>A manifesto is not a rant.</a:t>
            </a:r>
            <a:endParaRPr b="0" lang="en-US" sz="2800" spc="148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0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199" strike="noStrike" cap="all">
                <a:solidFill>
                  <a:srgbClr val="ffffff"/>
                </a:solidFill>
                <a:latin typeface="Franklin Gothic Medium"/>
              </a:rPr>
              <a:t>Writing a manifesto (cont.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648320" y="1897200"/>
            <a:ext cx="4038120" cy="40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Grid">
  <a:themeElements>
    <a:clrScheme name="Grid">
      <a:dk1>
        <a:srgbClr val="000000"/>
      </a:dk1>
      <a:lt1>
        <a:srgbClr val="ffffff"/>
      </a:lt1>
      <a:dk2>
        <a:srgbClr val="534949"/>
      </a:dk2>
      <a:lt2>
        <a:srgbClr val="ccd1b9"/>
      </a:lt2>
      <a:accent1>
        <a:srgbClr val="c66951"/>
      </a:accent1>
      <a:accent2>
        <a:srgbClr val="bf974d"/>
      </a:accent2>
      <a:accent3>
        <a:srgbClr val="928b70"/>
      </a:accent3>
      <a:accent4>
        <a:srgbClr val="87706b"/>
      </a:accent4>
      <a:accent5>
        <a:srgbClr val="94734e"/>
      </a:accent5>
      <a:accent6>
        <a:srgbClr val="6f777d"/>
      </a:accent6>
      <a:hlink>
        <a:srgbClr val="cc9900"/>
      </a:hlink>
      <a:folHlink>
        <a:srgbClr val="c0c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rid</Template>
  <TotalTime>93</TotalTime>
  <Application>LibreOffice/7.4.7.2$Linux_X86_64 LibreOffice_project/40$Build-2</Application>
  <AppVersion>15.0000</AppVersion>
  <Words>25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49:51Z</dcterms:created>
  <dc:creator>Slim Limpkins</dc:creator>
  <dc:description/>
  <dc:language>en-US</dc:language>
  <cp:lastModifiedBy>mark</cp:lastModifiedBy>
  <dcterms:modified xsi:type="dcterms:W3CDTF">2011-11-28T04:14:34Z</dcterms:modified>
  <cp:revision>11</cp:revision>
  <dc:subject/>
  <dc:title>The manifes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1</vt:r8>
  </property>
</Properties>
</file>